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C78C-E129-4C66-914B-FF3F30270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F340-FCFE-4525-BCE9-1A9D970A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7FF2-B8F8-47B2-9DBB-4EF9E5BC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5857-F616-473F-8E95-94B000DE1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2616-11EB-49AA-B288-5A75E5F6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A6B5-F0BA-40B4-B3DE-79946879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A1C8-477A-4250-A93E-77494DE2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6C39-B6D6-461B-86F5-3BD31DC8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DE4A-86EF-463A-A197-62A88DE0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F16A-F9C9-4344-B39B-E5779116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040D-2FC4-4EC4-9299-C2DF3C2B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113F-BD3F-466D-876D-2080351C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4D71-2B94-4A65-8FB4-DC6542B5D8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年级  高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学科  英语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1BU21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Karl  Marx   (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26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星期一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  15:40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讲课教师   凌蕙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123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2133720"/>
            <a:ext cx="89154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2. When Marx came to England, he 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knew little Engl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knew English quite w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knew some Englis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666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981080"/>
            <a:ext cx="7696080" cy="38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3. Engels praised Marx for his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English after he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read Marx’s let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read his articles in the newspa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read </a:t>
            </a:r>
            <a:r>
              <a:rPr b="1" i="1" lang="zh-CN" sz="3600" spc="-1" strike="noStrike">
                <a:solidFill>
                  <a:srgbClr val="993300"/>
                </a:solidFill>
                <a:latin typeface="Times New Roman"/>
              </a:rPr>
              <a:t>The Civil War in France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905120"/>
            <a:ext cx="81536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4. Marx was able to use English freel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ecause 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he wrote a great book in Engl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he used to live in Lond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he could write to Engels in Englis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85800" y="222120"/>
            <a:ext cx="792468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2286000"/>
            <a:ext cx="8458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1. Marx had to leave his homeland 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in the year 184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when he was yo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when he was in his fift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2286000"/>
            <a:ext cx="8458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1. Marx had to leave his homeland 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in the year 184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B. when he was yo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when he was in his fift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2133720"/>
            <a:ext cx="89154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2. When Marx came to England, he 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knew little Engl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knew English quite w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knew some Englis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133720"/>
            <a:ext cx="89154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2. When Marx came to England, he 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knew little Engl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knew English quite w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C. knew some English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666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981080"/>
            <a:ext cx="7696440" cy="38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3. Engels praised Marx for his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English after he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read Marx’s let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read his articles in the newspa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read </a:t>
            </a:r>
            <a:r>
              <a:rPr b="1" i="1" lang="zh-CN" sz="3600" spc="-1" strike="noStrike">
                <a:solidFill>
                  <a:srgbClr val="993300"/>
                </a:solidFill>
                <a:latin typeface="Times New Roman"/>
              </a:rPr>
              <a:t>The Civil War in France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666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981080"/>
            <a:ext cx="7696080" cy="38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3. Engels praised Marx for his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English after he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read Marx’s let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B. read his articles in the newspa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read </a:t>
            </a:r>
            <a:r>
              <a:rPr b="1" i="1" lang="zh-CN" sz="3600" spc="-1" strike="noStrike">
                <a:solidFill>
                  <a:srgbClr val="993300"/>
                </a:solidFill>
                <a:latin typeface="Times New Roman"/>
              </a:rPr>
              <a:t>The Civil War in France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057400" y="1447920"/>
            <a:ext cx="5715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7200" spc="-1" strike="noStrike">
                <a:solidFill>
                  <a:srgbClr val="cc3399"/>
                </a:solidFill>
                <a:latin typeface="Times New Roman"/>
              </a:rPr>
              <a:t>Unit 21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3399"/>
                </a:solidFill>
                <a:latin typeface="Times New Roman"/>
              </a:rPr>
              <a:t> </a:t>
            </a:r>
            <a:r>
              <a:rPr b="1" lang="zh-CN" sz="7200" spc="-1" strike="noStrike">
                <a:solidFill>
                  <a:srgbClr val="cc3399"/>
                </a:solidFill>
                <a:latin typeface="Times New Roman"/>
              </a:rPr>
              <a:t>Karl  Mar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828800"/>
            <a:ext cx="81532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4. Marx was able to use English freel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ecause 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he wrote a great book in Engl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he used to live in Lond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he could write to Engels in Englis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1828800"/>
            <a:ext cx="81536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4. Marx was able to use English freel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ecause 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A. he wrote a great book in Engl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he used to live in Lond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he could write to Engels in Englis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91440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口语练习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133720"/>
            <a:ext cx="80769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1. Why did Marx leave 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homeland?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3886200"/>
            <a:ext cx="7162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e was forced to leave his homeland for political reason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91440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口语练习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3623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2. How many countries did he go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after he left Germany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343400"/>
            <a:ext cx="7620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re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rance, Belgium and Engl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2120" y="91440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口语练习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2362320"/>
            <a:ext cx="8001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3. How did he feel about his Englis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when he first got to England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4038480"/>
            <a:ext cx="73915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e found his English was too limited / was not good enough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62120" y="91440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口语练习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133720"/>
            <a:ext cx="8229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4. What did he do to improve h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English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3657600"/>
            <a:ext cx="8153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e worked very hard and so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egan to  write articles in Englis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or a newspap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62120" y="91440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口语练习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22860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5. Why did Engels write to Marx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358128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e wrote him a letter to prais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rx for his good English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3520" y="1143000"/>
            <a:ext cx="8610480" cy="48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宋体"/>
              </a:rPr>
              <a:t>★</a:t>
            </a:r>
            <a:r>
              <a:rPr b="1" lang="zh-CN" sz="3600" spc="-1" strike="noStrike">
                <a:solidFill>
                  <a:srgbClr val="993300"/>
                </a:solidFill>
                <a:latin typeface="宋体"/>
              </a:rPr>
              <a:t>阅读理解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快速阅读课文的后两段并判断正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251"/>
              </a:spcBef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Marx went to Russia in the 1870’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2. It took Marx six months to lear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enough Russian for 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rticl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3429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5410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870120"/>
            <a:ext cx="861048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宋体"/>
              </a:rPr>
              <a:t>★</a:t>
            </a:r>
            <a:r>
              <a:rPr b="1" lang="zh-CN" sz="3600" spc="-1" strike="noStrike">
                <a:solidFill>
                  <a:srgbClr val="993300"/>
                </a:solidFill>
                <a:latin typeface="宋体"/>
              </a:rPr>
              <a:t>阅读理解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快速阅读课文的后两段并判断正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3. Marx gave some advice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learning English in one of h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ook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50292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90720" y="1219320"/>
            <a:ext cx="8610480" cy="35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宋体"/>
              </a:rPr>
              <a:t>★</a:t>
            </a:r>
            <a:r>
              <a:rPr b="1" lang="zh-CN" sz="3600" spc="-1" strike="noStrike">
                <a:solidFill>
                  <a:srgbClr val="993300"/>
                </a:solidFill>
                <a:latin typeface="宋体"/>
              </a:rPr>
              <a:t>阅读理解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快速阅读课文的后两段并判断正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4. You can not master a foreig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language unless you transla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it into your ow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49528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743200" y="8380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Unit 21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一讲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211788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、导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3436920"/>
            <a:ext cx="73152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ad the dialogue quickly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nswer the ques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220968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14400" y="2362320"/>
          <a:ext cx="7315200" cy="2945880"/>
        </p:xfrm>
        <a:graphic>
          <a:graphicData uri="http://schemas.openxmlformats.org/drawingml/2006/table">
            <a:tbl>
              <a:tblPr/>
              <a:tblGrid>
                <a:gridCol w="3657600"/>
                <a:gridCol w="3657600"/>
              </a:tblGrid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d in: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ied (languages):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s close friend: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990720" y="99072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much do you know about Carl Marx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236232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rmany, France, Belgium, Engl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3352680"/>
            <a:ext cx="350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rench, English, Russian  (German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46483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ge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914400" y="1523880"/>
          <a:ext cx="7315200" cy="4229280"/>
        </p:xfrm>
        <a:graphic>
          <a:graphicData uri="http://schemas.openxmlformats.org/drawingml/2006/table">
            <a:tbl>
              <a:tblPr/>
              <a:tblGrid>
                <a:gridCol w="3200400"/>
                <a:gridCol w="4114800"/>
              </a:tblGrid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 of birth: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ce of birth: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: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ote articles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ut: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4343400" y="17524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y 5</a:t>
            </a:r>
            <a:r>
              <a:rPr b="1" lang="en-US" sz="3200" spc="-1" strike="noStrike" baseline="30000">
                <a:solidFill>
                  <a:srgbClr val="3333cc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, 1818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7432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rman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3581280"/>
            <a:ext cx="4343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igh school, univers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 Germany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47242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ousing problem,  the hard life of the peasant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762120"/>
            <a:ext cx="624852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听力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ore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685800"/>
            <a:ext cx="74674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作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朗读课文，每日三遍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并记住新单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做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80—2    P81—1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83—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上网查找有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Karl  Mar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英语的资料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066680"/>
            <a:ext cx="80010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1. What are they talk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about?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327672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They are talking about English stud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38080" y="1066680"/>
            <a:ext cx="8001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2. Is Yang Pei good a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English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2819520"/>
            <a:ext cx="67057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Yes, but she has some difficulty with idiom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2120" y="36576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atch a cold”is something you do; “have a cold” is something you ha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4952880"/>
            <a:ext cx="80769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ut down” is to let something fall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ut up” is to cut something into pie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457200"/>
            <a:ext cx="7925040" cy="36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Do you know the differe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betwe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catch a col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have a col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cut down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cut up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295280" y="76212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二、课文学习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16002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新词汇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23623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ase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  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根据地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基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30481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revolutionary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革命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37782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imited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限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4648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rapid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迅速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53341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rticle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文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95280" y="76212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二、课文学习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16002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新词汇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23623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raise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vt. &amp; n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赞扬；表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3244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ncourage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vt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鼓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41148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orks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著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50292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aster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vt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精通；掌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听课文前四段录音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2286000"/>
            <a:ext cx="8458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1. Marx had to leave his homeland 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in the year 184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when he was yo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when he was in his fift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6:47:41Z</dcterms:created>
  <dc:creator>User</dc:creator>
  <dc:description/>
  <dc:language>en-US</dc:language>
  <cp:lastModifiedBy>Zhang Lingdi</cp:lastModifiedBy>
  <dcterms:modified xsi:type="dcterms:W3CDTF">2003-06-10T09:33:18Z</dcterms:modified>
  <cp:revision>33</cp:revision>
  <dc:subject/>
  <dc:title>PowerPoint 演示文稿</dc:title>
</cp:coreProperties>
</file>